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565-F3FF-493D-A377-3FBF41E3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9E4-9FD2-4517-BE14-47C23CFF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CCC-9A47-40EF-84DD-731D8488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538-66F1-4B05-BE33-D8E9B704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5D6-FBE0-4A83-8DC5-25E19D6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5FF-4809-41E4-813D-556F71D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1C7-BD23-44C2-8E9E-AFF7A15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40B-84A1-4D18-98F5-3685EF57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F73-FBAE-4648-AD76-83BBB8E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107-C67E-4D88-A3AB-19ACBDD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8E4-BE1F-466B-A8A9-B540E94D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3A5-169D-4EA4-9DED-C06D9CA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1F9E-1F88-4235-9046-5A8B4FD8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ad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838080"/>
            <a:ext cx="89917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</a:t>
            </a:r>
            <a:endParaRPr b="0" lang="en-US" sz="1800" spc="1" strike="noStrike">
              <a:ln cap="rnd" w="1260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 flipV="1" rot="11096400">
            <a:off x="2895120" y="913320"/>
            <a:ext cx="457200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5440" y="609480"/>
            <a:ext cx="10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81280" y="45720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Jamaica Farewell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3-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Cade"/>
          <p:cNvPicPr/>
          <p:nvPr/>
        </p:nvPicPr>
        <p:blipFill>
          <a:blip r:embed="rId1"/>
          <a:srcRect l="0" t="0" r="50005" b="0"/>
          <a:stretch/>
        </p:blipFill>
        <p:spPr>
          <a:xfrm>
            <a:off x="0" y="2362320"/>
            <a:ext cx="32767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Cade"/>
          <p:cNvPicPr/>
          <p:nvPr/>
        </p:nvPicPr>
        <p:blipFill>
          <a:blip r:embed="rId2"/>
          <a:srcRect l="50005" t="2179" r="0" b="0"/>
          <a:stretch/>
        </p:blipFill>
        <p:spPr>
          <a:xfrm>
            <a:off x="3276720" y="2362320"/>
            <a:ext cx="586728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3720" y="1058760"/>
            <a:ext cx="4190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/28/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2286000"/>
            <a:ext cx="7162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atorade  G Series  Orange   Lemon-Lime                       Ice Breeze  Tropical Punch      Fruit Punch   Respond To Thirst   Grape  G2   Berry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ff01"/>
                </a:solidFill>
                <a:latin typeface="Arial"/>
              </a:rPr>
              <a:t>Invention:</a:t>
            </a:r>
            <a:r>
              <a:rPr b="0" lang="en-US" sz="4400" spc="-1" strike="noStrike">
                <a:solidFill>
                  <a:srgbClr val="6eff01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eff01"/>
                </a:solidFill>
                <a:latin typeface="Arial"/>
              </a:rPr>
              <a:t>Gato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n at every soccer, football, and baseball game</a:t>
            </a: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First seen when the Florida Gators won their first Orange B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Sales in 2001 were almost in the bil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First was sold by Stokely-Van Camp, then The Quaker Oats Company, and now the Pepsi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There were only 5 flavors in the beginning and now there are over 15. Orange is the most common flavor th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0e6"/>
                </a:solidFill>
                <a:latin typeface="Arial"/>
              </a:rPr>
              <a:t>Also makes chewing gum and energy b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ventor: Robert C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bert Cade grew up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was born in 19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was a medical researcher at the University of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studied for a cure of cancer and diabetes. Also, down synd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e Graduated from medical school after going to The University of Texas Medical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21:39Z</dcterms:created>
  <dc:creator>install</dc:creator>
  <dc:description/>
  <dc:language>en-US</dc:language>
  <cp:lastModifiedBy>install</cp:lastModifiedBy>
  <dcterms:modified xsi:type="dcterms:W3CDTF">2011-03-11T18:30:58Z</dcterms:modified>
  <cp:revision>13</cp:revision>
  <dc:subject/>
  <dc:title>Slide 1</dc:title>
</cp:coreProperties>
</file>